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8474-38A5-41D3-AACC-D22537DA2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769D-0351-44AC-A363-D7EB83147C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8DC-5E21-4DF1-9C3B-C3542F24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910-7594-4773-8432-60BFE7FA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65E-DA3E-46A4-AEF5-3798343A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9C0-8560-46F8-9B1A-E0E74D67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49C8-268B-4069-A546-989B8A31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8CFD-881C-4192-ACAB-F65855E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12E6-C176-4687-A4E0-BFE565EF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B20A-C4C9-4BDC-842A-520B23A4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4830-D67E-4CC8-8A22-F4ED235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5BBC-BF61-4681-840B-26649F20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1FB2-1C8F-4F26-BFFD-E1029B7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703-2C71-40C3-9CC2-9B4B6DE7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5539-986F-4C87-A9EA-F8005760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161F-068D-4BBC-A408-0D70A045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19DB-7FA1-418F-A2F2-D8070B21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E06D-168E-403D-95D6-8A2E83B8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17FC-DBAB-4EF4-A16D-0BBE509A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A35-FD0F-41F2-9197-2DA32032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E80-FB65-4C76-8699-07649E49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D24-621E-4E2E-8C5C-D01CC60A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FBE-248E-40FE-A13B-4344E72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83D-4A42-4B5A-BB6F-4841328F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645-710A-4D03-9EAF-8990481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67F-4C5B-46E9-BB8B-51C0EAC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A078-B2A4-4351-9FDC-5A3D92229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23B-A52F-4C58-8BCB-352D65FC3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merican Life in the 17</a:t>
            </a:r>
            <a:r>
              <a:rPr b="0" lang="en-US" sz="5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7-16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unishments for sla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sobeying one’s master slaves were whipped, hung, or skin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 families were often disbanded by s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e occurred often from white ma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Content Placeholder 4" descr="USASwhipping.jpg"/>
          <p:cNvPicPr/>
          <p:nvPr/>
        </p:nvPicPr>
        <p:blipFill>
          <a:blip r:embed="rId1"/>
          <a:stretch/>
        </p:blipFill>
        <p:spPr>
          <a:xfrm>
            <a:off x="4952880" y="1447920"/>
            <a:ext cx="3505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Abolitioni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t literature included some former slave autob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 Ball The Life of a Former S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Content Placeholder 4" descr="balltp.gif"/>
          <p:cNvPicPr/>
          <p:nvPr/>
        </p:nvPicPr>
        <p:blipFill>
          <a:blip r:embed="rId1"/>
          <a:stretch/>
        </p:blipFill>
        <p:spPr>
          <a:xfrm>
            <a:off x="5268960" y="1600200"/>
            <a:ext cx="279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thern Soci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st class w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ter cl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irst Families of Virgi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ed 100 or more slaves &amp; dominated the House of Burg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Content Placeholder 4" descr="untitled.bmp"/>
          <p:cNvPicPr/>
          <p:nvPr/>
        </p:nvPicPr>
        <p:blipFill>
          <a:blip r:embed="rId1"/>
          <a:stretch/>
        </p:blipFill>
        <p:spPr>
          <a:xfrm>
            <a:off x="4648320" y="2352600"/>
            <a:ext cx="4038480" cy="30211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50292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ntation 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outhern societ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Content Placeholder 4" descr="Family%20of%205%20group%20portrait.jpg"/>
          <p:cNvPicPr/>
          <p:nvPr/>
        </p:nvPicPr>
        <p:blipFill>
          <a:blip r:embed="rId1"/>
          <a:stretch/>
        </p:blipFill>
        <p:spPr>
          <a:xfrm>
            <a:off x="3581280" y="272880"/>
            <a:ext cx="5099040" cy="5853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planter cl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farmers, merchants &amp; skilled artis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ntured serv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 Americ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The New England Famil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Content Placeholder 12" descr="AmericanFamily.jpg"/>
          <p:cNvPicPr/>
          <p:nvPr/>
        </p:nvPicPr>
        <p:blipFill>
          <a:blip r:embed="rId1"/>
          <a:stretch/>
        </p:blipFill>
        <p:spPr>
          <a:xfrm>
            <a:off x="4406760" y="677880"/>
            <a:ext cx="3448080" cy="5043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ngland had strong family 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had many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ant mortality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ngland husbands had much control over their wives and child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Life in the New England Tow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40280" cy="9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own consisted of a meetinghouse surrounded by houses, village green and cemet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Content Placeholder 9" descr="E_PoultneyGreen-wide.jpg"/>
          <p:cNvPicPr/>
          <p:nvPr/>
        </p:nvPicPr>
        <p:blipFill>
          <a:blip r:embed="rId1"/>
          <a:stretch/>
        </p:blipFill>
        <p:spPr>
          <a:xfrm>
            <a:off x="457200" y="2633760"/>
            <a:ext cx="4040280" cy="30337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04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owns of fifty families had a “Little Red Schoolhouse”. Towns with 100 families required a secondary schoo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Content Placeholder 10" descr="little_red_schoolhouse_zoom.jpg"/>
          <p:cNvPicPr/>
          <p:nvPr/>
        </p:nvPicPr>
        <p:blipFill>
          <a:blip r:embed="rId2"/>
          <a:stretch/>
        </p:blipFill>
        <p:spPr>
          <a:xfrm>
            <a:off x="5105520" y="2438280"/>
            <a:ext cx="3429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England Tow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ly Col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vard was established to train ministers in 163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and Mary was established in 1693 in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n, and later Pembroke for women, was established in Rhode Is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arvard’s oldest building is Massachusett’s Ha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Content Placeholder 6" descr="2498670-A_walk_through_Americas_most_prestigious_campus-Cambridge.jpg"/>
          <p:cNvPicPr/>
          <p:nvPr/>
        </p:nvPicPr>
        <p:blipFill>
          <a:blip r:embed="rId1"/>
          <a:stretch/>
        </p:blipFill>
        <p:spPr>
          <a:xfrm>
            <a:off x="4572000" y="2743200"/>
            <a:ext cx="3962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Half Way Covenant and “jeremiads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lf -Way Coven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eople could come to church even if they were not “visible saints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hurch memb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this approach “delude” relig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eremi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80024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chers scolded their congregations about their waning piety &amp; fai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have paved the way for Great Awakening ministers in colonial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alem Witch Trial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1690s, group of Salem girls claimed to have been bewitched by older w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sterical witch-hunt followed that led to the execution of 20 people and two do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imilar events occurring in Euro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a year and a half the hysteria died d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Content Placeholder 9" descr="salem-witch-trial.jpg"/>
          <p:cNvPicPr/>
          <p:nvPr/>
        </p:nvPicPr>
        <p:blipFill>
          <a:blip r:embed="rId1"/>
          <a:stretch/>
        </p:blipFill>
        <p:spPr>
          <a:xfrm>
            <a:off x="2819520" y="4038480"/>
            <a:ext cx="3740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Early settlers’ Days and way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Content Placeholder 4" descr="american%20period%20traditional%20furniture.jpg"/>
          <p:cNvPicPr/>
          <p:nvPr/>
        </p:nvPicPr>
        <p:blipFill>
          <a:blip r:embed="rId1"/>
          <a:stretch/>
        </p:blipFill>
        <p:spPr>
          <a:xfrm>
            <a:off x="3575160" y="762120"/>
            <a:ext cx="5111640" cy="36576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 up to sun down work. Unless an event was “worth a candl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lot of extravagant liv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hing, whaling, ship building, furniture maker were the big industr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4038480" y="4876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ddard Townshed family furniture of New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13 Colon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Eng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t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ld Mines of New Eng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Content Placeholder 7" descr="cod_fish1.jpg"/>
          <p:cNvPicPr/>
          <p:nvPr/>
        </p:nvPicPr>
        <p:blipFill>
          <a:blip r:embed="rId1"/>
          <a:stretch/>
        </p:blipFill>
        <p:spPr>
          <a:xfrm>
            <a:off x="754200" y="2286000"/>
            <a:ext cx="3444840" cy="335268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8" descr="whaling1.jpg"/>
          <p:cNvPicPr/>
          <p:nvPr/>
        </p:nvPicPr>
        <p:blipFill>
          <a:blip r:embed="rId2"/>
          <a:stretch/>
        </p:blipFill>
        <p:spPr>
          <a:xfrm>
            <a:off x="4648320" y="2666880"/>
            <a:ext cx="4038480" cy="32529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9"/>
          <p:cNvSpPr/>
          <p:nvPr/>
        </p:nvSpPr>
        <p:spPr>
          <a:xfrm>
            <a:off x="762120" y="13716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od fi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4724280" y="1295280"/>
            <a:ext cx="35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ew Bedford wha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healthy Chesapeake Are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sh Wilderness Life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expectancy for many was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sapeake area had a 6-1 ration of males to fe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children born out of wed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ginia most populated col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Content Placeholder 6" descr="Elisha_Woodbury_b1762.jpg"/>
          <p:cNvPicPr/>
          <p:nvPr/>
        </p:nvPicPr>
        <p:blipFill>
          <a:blip r:embed="rId1"/>
          <a:stretch/>
        </p:blipFill>
        <p:spPr>
          <a:xfrm>
            <a:off x="5029200" y="1447920"/>
            <a:ext cx="323856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7"/>
          <p:cNvSpPr/>
          <p:nvPr/>
        </p:nvSpPr>
        <p:spPr>
          <a:xfrm>
            <a:off x="4724280" y="5257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lisha Woodbury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ave…typhoid fever victim in 17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obacco Econom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tobacco cultiv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ivated by indentured serv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d transatlantic passage &amp; freedom d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Content Placeholder 7" descr="slavery2indenturecontract.jpg"/>
          <p:cNvPicPr/>
          <p:nvPr/>
        </p:nvPicPr>
        <p:blipFill>
          <a:blip r:embed="rId1"/>
          <a:stretch/>
        </p:blipFill>
        <p:spPr>
          <a:xfrm>
            <a:off x="4724280" y="1295280"/>
            <a:ext cx="3810240" cy="3429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8"/>
          <p:cNvSpPr/>
          <p:nvPr/>
        </p:nvSpPr>
        <p:spPr>
          <a:xfrm>
            <a:off x="4038480" y="5029200"/>
            <a:ext cx="464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entured servant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he Head right System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Content Placeholder 7" descr="hc07.gif"/>
          <p:cNvPicPr/>
          <p:nvPr/>
        </p:nvPicPr>
        <p:blipFill>
          <a:blip r:embed="rId1"/>
          <a:stretch/>
        </p:blipFill>
        <p:spPr>
          <a:xfrm>
            <a:off x="4495680" y="762120"/>
            <a:ext cx="2583000" cy="25146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acres of land to whoever paid for indentured servant p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large plant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available land for poor colonial im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0" descr="1910WilliamBurrelLawless.jpg"/>
          <p:cNvPicPr/>
          <p:nvPr/>
        </p:nvPicPr>
        <p:blipFill>
          <a:blip r:embed="rId2"/>
          <a:stretch/>
        </p:blipFill>
        <p:spPr>
          <a:xfrm>
            <a:off x="3429000" y="4572000"/>
            <a:ext cx="4495680" cy="17524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1"/>
          <p:cNvSpPr/>
          <p:nvPr/>
        </p:nvSpPr>
        <p:spPr>
          <a:xfrm>
            <a:off x="4343400" y="3505320"/>
            <a:ext cx="273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d right historical ma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acon’s Rebellion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verished freemen frustrated w/ broken hopes of acquiring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nted friendly policy towards 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ns (free men, indentured servants) rose &amp; attacked nat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ched James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1" descr="colonial_exp.jpg"/>
          <p:cNvPicPr/>
          <p:nvPr/>
        </p:nvPicPr>
        <p:blipFill>
          <a:blip r:embed="rId1"/>
          <a:stretch/>
        </p:blipFill>
        <p:spPr>
          <a:xfrm>
            <a:off x="2666880" y="4495680"/>
            <a:ext cx="39816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lonial Slav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f a million slaves brought to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 Million to the “New Worl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laves from West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750 African Slaves are very populous in the Southern colon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Content Placeholder 4" descr="menu1.jpg"/>
          <p:cNvPicPr/>
          <p:nvPr/>
        </p:nvPicPr>
        <p:blipFill>
          <a:blip r:embed="rId1"/>
          <a:stretch/>
        </p:blipFill>
        <p:spPr>
          <a:xfrm>
            <a:off x="5410080" y="1447920"/>
            <a:ext cx="2286000" cy="1195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E027.jpg"/>
          <p:cNvPicPr/>
          <p:nvPr/>
        </p:nvPicPr>
        <p:blipFill>
          <a:blip r:embed="rId2"/>
          <a:stretch/>
        </p:blipFill>
        <p:spPr>
          <a:xfrm>
            <a:off x="4343400" y="2971800"/>
            <a:ext cx="4541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iangular Tra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England with rum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ld Coast of Africa, trade it for African Slave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st Indies, where slaves were exchanged for molasses, which in turn would be traded in New England  to make ru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Content Placeholder 4" descr="Triangular_trade_wordless.jpg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243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rod_brown_middle_passage_art.jpg"/>
          <p:cNvPicPr/>
          <p:nvPr/>
        </p:nvPicPr>
        <p:blipFill>
          <a:blip r:embed="rId2"/>
          <a:stretch/>
        </p:blipFill>
        <p:spPr>
          <a:xfrm>
            <a:off x="762120" y="5410080"/>
            <a:ext cx="35812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slave revo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 protests took many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rebell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s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s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botaging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ight revolts occur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no River rebellion in 1739 in South Carol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Content Placeholder 4" descr="stono_rebellion.jpg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20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f285ca7-4d8d-4051-a724-5fa06abf9307.jpg"/>
          <p:cNvPicPr/>
          <p:nvPr/>
        </p:nvPicPr>
        <p:blipFill>
          <a:blip r:embed="rId2"/>
          <a:stretch/>
        </p:blipFill>
        <p:spPr>
          <a:xfrm>
            <a:off x="4419720" y="3733920"/>
            <a:ext cx="4267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4:59:15Z</dcterms:created>
  <dc:creator>brissettematthew</dc:creator>
  <dc:description/>
  <dc:language>en-US</dc:language>
  <cp:lastModifiedBy>emily.johnson</cp:lastModifiedBy>
  <dcterms:modified xsi:type="dcterms:W3CDTF">2012-09-12T19:18:09Z</dcterms:modified>
  <cp:revision>56</cp:revision>
  <dc:subject/>
  <dc:title>Chapter 4 American Life in the Seventeenth Century</dc:title>
</cp:coreProperties>
</file>